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29C-EB22-44D5-9B6B-2365C7CB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C41-6830-4919-9D4B-2BBD3000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678-A615-4CCC-956E-8C905045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A36-D32B-4199-802D-C902B604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5834-5E22-41E4-8DBB-2D3E3927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823C-D5FE-4D7B-A15B-2E379895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79B3-07B2-425A-A555-E3918153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D9C8-6E73-4932-843C-89771334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C2B4-20D1-4127-AB8B-25BBE814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22FB-851F-4DF8-B6CF-F197DB14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4A15-77C3-46EA-94AC-62E73CE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AA4-9848-4819-BC98-FCEE8FAC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C643-C344-4762-847B-9B23FE6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859C-2539-4618-ADEC-894B005D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A384-5386-43D8-982A-8FCC30BF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188D-3DB7-4455-9DA9-C5B54B97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467F-29C4-4056-A367-24B8A14B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161-C9F4-40CF-97A0-145F77B2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B41-5705-4D45-B4AA-6BE00FE5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C29-FE4E-4C88-AB41-EE86D50D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2AE-394E-4999-864A-FAEA1D5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8D8-5C0A-40DC-B22A-C9C7BE1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36C-57D7-4A13-88FE-B33CBF3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ABE-7929-4D1E-AA0E-3E6E2C4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FC5F-B0C5-41FE-8FA3-E28AD0C5C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D0EC-293D-4211-8C46-87291E3DE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La Rutin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ake Le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per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despierta tempran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levanta ensegu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6958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ma una duch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8007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toma una ducha, el muchacho se lava el pe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81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navaj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5029200"/>
            <a:ext cx="800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afeita, se afeita con al nav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epill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800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cepilla los d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952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in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8007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peina. Se mira en el espejo cuando se pe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562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nerse la rop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487656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se pone la ro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ayun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4952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sienta a la mesa. Toma el desayuna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os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4571640"/>
            <a:ext cx="8007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la noche, el se duerme ensegu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47815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46:46Z</dcterms:created>
  <dc:creator>learyjoh</dc:creator>
  <dc:description/>
  <dc:language>en-US</dc:language>
  <cp:lastModifiedBy>learyjoh</cp:lastModifiedBy>
  <dcterms:modified xsi:type="dcterms:W3CDTF">2012-04-05T13:28:24Z</dcterms:modified>
  <cp:revision>4</cp:revision>
  <dc:subject/>
  <dc:title>Slide 1</dc:title>
</cp:coreProperties>
</file>